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EA8-8F5E-4CB4-A813-9FAFA8DB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FC5-7960-452C-874F-F2119D9D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FD81-E97C-4C25-8E92-E867F58F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413-8C29-4577-9BDA-86569AA5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E0F7-B67F-49B0-820E-6DA203E4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C0E-FCA3-4A45-9AEB-993EEFF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B84E-3A31-4557-8B18-1DFA9E19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793B-11A5-400B-87BC-0AC6949F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F5D-55AE-4654-B38F-311869DB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A58E-031F-4937-B09B-8FB5E307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A4BE-084E-4DD4-A245-9DCC740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1A4-FA2B-490C-B573-2AC34829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82B0-968E-4052-B080-BE6F2998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478D-A67C-4329-8B19-581EB41D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82A2-9FE1-4575-80E4-A17B6AC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91A-5D67-4F93-BE9B-A07FBC54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35DF-F252-47EB-B4B1-05B2C860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CB24A-692D-478D-BF4B-BA20477C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8C55-AE59-41E2-99C1-28B967B7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A3B31-F304-43DD-8738-ED6BFD3A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E895-0241-41AE-A26A-6B7761B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5A56-CCAB-4197-9F15-5E2FBA9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D70-EF67-4F09-B0CA-021D55B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B8C2-99D5-4AEC-BF8C-91BBE77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46E2-F218-411A-AF28-E24FDA73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CA23-85BB-41C5-8BED-4C8E0F5A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CBCDD-D365-45A1-A75D-6432A3A0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4C128-F2C2-4996-AEB6-4C9BAF79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4CE0-998B-446A-AF6B-7135C2F9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9B94-270E-4470-918D-94057457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5CB20-B7A7-4FFC-ADC3-4DE4493E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6B35-FA7C-4421-AD31-BC90137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B4A4F-EF10-4EA1-8D12-8F4F5A19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29A-B274-4B80-A558-4C30534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AA501-6B79-4D3A-8EDF-D002B34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C15B-C3D7-4725-8F81-E311AF67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4D4E8-4397-477F-AFC7-B65E7F3B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6562-A73A-4748-96FA-89B06289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C9A9-9691-41E6-9C8C-524F1725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CD57-E964-4B22-9871-9EC3DF9D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3072-2B64-42F8-B648-311F4549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0DAE-590B-4BD2-8BC6-4D215DCC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9B4E-9734-4BD0-B879-4673A0A2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118-5B34-4726-BBCF-B633119C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99E-E8E9-4134-92F4-DF57BC4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F29-349B-474C-9A61-7CCCBFB0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3D50-5399-46A1-99BE-8E38B8EB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32C-E755-4215-9FC4-460B1C9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512B-0584-4565-BD78-0E7084614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25E1-85CC-42CA-8BE9-79161EB7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210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11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6461-58A5-4553-8F75-B90F25A96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27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27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0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C347-8B3E-4C3C-9A55-C9DB3815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perimental Desig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a homework worksheet to practice identifying different kinds of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I find that it helps to try to fit the experiment into the phr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What is the effect of X on Y?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you can do it, whatever went into the space X is your independent variable, space Y is your dependent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 and Mystery Powd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you’ll design procedures and at least start running tests to try to figure out the contents of several mystery powders, based upon your background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  What will your independent, dependent, and control variables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ystery Powd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Scientific Process questions 1-4 with me before you start collect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everyone in your group is inv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before we begin: If science doesn’t always go step-by-step like this, why am I asking you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ir Te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what a “fair test”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fully design a fai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air Te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fair test is a test that provides accurate and reliable evidence to help answer the question you’ve as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I want to know if higher temperatures help roses grow.  If I plant some roses in Alaska and some roses in Siberia, will my resul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me answer my question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data will reflect reality, but they may not be any good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a test have to be in order to be f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air Tes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design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r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nge only one independent variable at a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ink of all possible control variables, and keep them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se the right instruments to measure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range everything to make error unlik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Worksheet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y Powder Lab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in your pairs, what are all the different things that you think could possibly affect whether something will float or sin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r are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rules of a fair test, how do we determine if you’re right about thos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ogether with two other tables nearby, get a whiteboard, and brainstorm what you could do (within the constraints of the classroom) to test these predi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you come up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groups, think carefully about these proposals, and make suggestions when they’re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come up with a procedure that everybody agrees is a 100% fair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ill It Float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when we return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 responsible for bringing in what material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etermining Volu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as many ways as you can to determine the volume of something.  (Hint: you’ve already used at least 3 in this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Bal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use a triple-beam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use an electronic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ree kinds of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s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Measurements, observations, and facts are types of dat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ariabl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are situations, objects, events, or states that are involved in the 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y can vary in an experiment, hence, variabl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ependent variab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the condition you believe will have an effect on the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an tell me about an experiment you’ve heard about or 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endent variabl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pend on what the independent variable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ou do not directly manipulate them.  What happens to them is the point of th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ing back to the same examples, let’s figure out dependent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trol variabl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re constant across your experimental set-up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You don’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st them.  You want to make sure they don’t mess with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uld be controlled in our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were to have a test in which I’m looking at the question, “What is the effect of exposure to different heat sources on plant heigh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my independent variable, the thing that doesn’t depend on any other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/are my dependent variable/s, the thing/s whose values will depend on the independent var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ight some control variable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one: “Which type of corrosive acid dissolves a bean plant most quickl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vari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variable/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variab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8:37:20Z</dcterms:created>
  <dc:creator>Rebecca Stang</dc:creator>
  <dc:description/>
  <dc:language>en-US</dc:language>
  <cp:lastModifiedBy>Rebecca Stang</cp:lastModifiedBy>
  <dcterms:modified xsi:type="dcterms:W3CDTF">2009-09-13T17:13:10Z</dcterms:modified>
  <cp:revision>56</cp:revision>
  <dc:subject/>
  <dc:title>Biology for Friday 1/25</dc:title>
</cp:coreProperties>
</file>